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E25-B5C9-4479-A996-35446637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688-16AF-4400-B893-B4859ACB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AF7-8B0D-4425-A4D7-F8251803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B03-7FE6-4826-92FC-2A146C88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4D99-BB5B-49BC-8E3C-DE17C695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B154-F778-4917-97C6-0643E92B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1C68-5228-42CD-BDB9-EA909B32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763E-2155-4ECE-9611-D7C05E78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6AC9-58C1-4C35-BA39-6EBB6325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6994-2EE6-41C1-8656-17FF51DF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2BEA-7259-41E7-ABFD-BADD828C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39A-F966-4CE4-8CA7-A1CC9829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3AF3-6AC2-44FA-ACBB-C4020958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8639-C5D3-4626-B9D9-36F5DD66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7753-33C4-4D41-AB91-58CC8FDA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7F1B-C717-4BAB-9881-46767AD0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0245-C72E-4FBE-A91F-00C12D9C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3D29E-7B8E-4180-BF96-9E46A1EC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26A74-4184-4D29-AF49-E5A324F5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42BDC-FE70-44F8-AF74-C9F349B7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FE35C-02E1-4B8C-BFE7-287F8216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FBEA9-F4DC-45ED-88F6-E1640083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3CB-52E8-4E95-89AD-9314D686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A5B94-29EE-45E1-B698-3323161B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5DE6D-E84A-41CC-908E-D8D7A3B8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1E292-9EFD-4A94-B545-C675C4BE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999A0-7EFD-4CE0-B617-03AAD18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8205B-04DF-468C-8633-CD8E064A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7808B-AC9E-4A0C-8632-59B762F8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55762-DC93-4201-80FC-8E8965B7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35C7D-B997-4AF8-94E3-6C7D78BC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74109-E62E-4CE9-B420-19304ADA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D3653-A93B-4914-8FDE-C32F8BD4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439-FAD5-4F35-A667-99194DA8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1A635-4329-4C8B-8A3E-0FE54E94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7424F-88C2-45B8-AD1D-A98C1E69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3CBE-461B-41F5-945F-DF271CD5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D8A7C-66E0-400B-A6B0-9DE2806E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9B96-0588-48A8-A111-638F140E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70984-1DD7-4135-853D-2C56C440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14FB7-AD1D-4073-A1E9-EBEB8948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A7ED5-214A-4707-9F69-451F033E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26D6-61CA-4FCF-A09C-E0DD2277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A28-0F23-4E61-824B-7AFC9F88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DDC-A8CF-4168-8B06-EF335CBF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D8F-25E1-41C9-890C-1FF3BCB8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CA2-52AD-4CD2-96AA-F56F6DF9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644-6325-485C-B833-93A3DF0C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2905-E418-4C28-8CA5-37D681D3F253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39B3-EDD2-40AE-ADF5-B5DA03A4FF58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06D6-48DF-4A77-A4ED-36FDDBF79ADC}" type="datetime3">
              <a:rPr b="0" lang="en-US" sz="2400" spc="-1" strike="noStrike">
                <a:solidFill>
                  <a:srgbClr val="fefefe"/>
                </a:solidFill>
                <a:latin typeface="Century Gothic"/>
              </a:rPr>
              <a:t>July 30, 2026</a:t>
            </a:fld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7632-24FA-4519-9B8D-4630984500CE}" type="slidenum"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F296-1B71-4587-BB30-3A55A9AB407F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3C68-37A3-4A98-BFB8-1D57C0A02BC3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2D53-F610-414F-BBA1-C1BB035BE7C3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01DC-A2ED-4836-953D-5EB50A25DF43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h. 27 Warm-Up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What was Frederick Griffith’s contribution to our understanding of DNA? (Refer back to Ch. 16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ow do bacteria replicate?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20_02aGeneCloningPreview-L.jpg"/>
          <p:cNvPicPr/>
          <p:nvPr/>
        </p:nvPicPr>
        <p:blipFill>
          <a:blip r:embed="rId1"/>
          <a:stretch/>
        </p:blipFill>
        <p:spPr>
          <a:xfrm>
            <a:off x="596880" y="2089080"/>
            <a:ext cx="7958160" cy="37576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802800"/>
            <a:ext cx="702468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Using plasmids and bacteria in genetic engineering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20_02bGeneCloningPreview-L.jpg"/>
          <p:cNvPicPr/>
          <p:nvPr/>
        </p:nvPicPr>
        <p:blipFill>
          <a:blip r:embed="rId1"/>
          <a:stretch/>
        </p:blipFill>
        <p:spPr>
          <a:xfrm>
            <a:off x="630360" y="790560"/>
            <a:ext cx="7970760" cy="56674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3640" y="384120"/>
            <a:ext cx="3586320" cy="7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Gene Clon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3160" y="561600"/>
            <a:ext cx="340200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Transducti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3" name="Picture 3" descr="27_11Transduction_4-L.jpg"/>
          <p:cNvPicPr/>
          <p:nvPr/>
        </p:nvPicPr>
        <p:blipFill>
          <a:blip r:embed="rId1"/>
          <a:stretch/>
        </p:blipFill>
        <p:spPr>
          <a:xfrm>
            <a:off x="4249800" y="779400"/>
            <a:ext cx="4172040" cy="5618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786960" y="1139400"/>
            <a:ext cx="3979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Viruses (bacteriophages) carry bacterial genes from one host cell to anoth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Recombine DNA of donor and recipient cel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539280"/>
            <a:ext cx="702468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Conjugati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719280" y="1363320"/>
            <a:ext cx="775008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One cell donates DNA to anoth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Donors cell extend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sex pilus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 (“mating bridge”) through which DNA is transferred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Requires the presence of a piece of DNA called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F factor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to produce the pilu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7" name="Picture 3" descr="27_12BactConjugation-L.jpg"/>
          <p:cNvPicPr/>
          <p:nvPr/>
        </p:nvPicPr>
        <p:blipFill>
          <a:blip r:embed="rId1"/>
          <a:srcRect l="0" t="14592" r="0" b="0"/>
          <a:stretch/>
        </p:blipFill>
        <p:spPr>
          <a:xfrm>
            <a:off x="2232000" y="3941640"/>
            <a:ext cx="46353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3823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ab 6A Warm-Up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16794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 are plasmids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 gene(s) are on the plasmid being used in this lab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ow can we know if cells have been successfully transformed in this lab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Bacteria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Chapter 27.2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1" name="Picture 4" descr="27_05ProkaryoticFimbriae-U.jpg"/>
          <p:cNvPicPr/>
          <p:nvPr/>
        </p:nvPicPr>
        <p:blipFill>
          <a:blip r:embed="rId1"/>
          <a:stretch/>
        </p:blipFill>
        <p:spPr>
          <a:xfrm>
            <a:off x="1893960" y="228600"/>
            <a:ext cx="5386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What you need to know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echanisms that contribute to genetic diversity in prokaryotes, including transformation, conjugation, transduction, and mutation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920" y="102672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Genetic Diversity in Prokaryote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Factors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Rapid reproduction (binary fission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utations – errors in replicatio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Genetic recombinatio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920" y="102672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4c600"/>
                </a:solidFill>
                <a:uFillTx/>
                <a:latin typeface="Century Gothic"/>
              </a:rPr>
              <a:t>Genetic Recombination in Bacteria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Transformation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: uptake of foreign DNA from surrounding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Transduction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: viruses transfer genes between prokaryot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Conjugation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: DNA transferred from one to anoth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9680" y="981000"/>
            <a:ext cx="398916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Transformati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9680" y="1639800"/>
            <a:ext cx="763884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048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Uptake of foreign DNA from surrounding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57040" indent="-2048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Observed by Griffith (bacteria &amp; mice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rcRect l="0" t="14197" r="0" b="0"/>
          <a:stretch/>
        </p:blipFill>
        <p:spPr>
          <a:xfrm>
            <a:off x="657360" y="2941560"/>
            <a:ext cx="3635280" cy="179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8" descr=""/>
          <p:cNvPicPr/>
          <p:nvPr/>
        </p:nvPicPr>
        <p:blipFill>
          <a:blip r:embed="rId2"/>
          <a:stretch/>
        </p:blipFill>
        <p:spPr>
          <a:xfrm>
            <a:off x="4549680" y="3278160"/>
            <a:ext cx="4029120" cy="305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8" descr="Draw circular plasmid maps with SimVector"/>
          <p:cNvPicPr/>
          <p:nvPr/>
        </p:nvPicPr>
        <p:blipFill>
          <a:blip r:embed="rId1"/>
          <a:stretch/>
        </p:blipFill>
        <p:spPr>
          <a:xfrm>
            <a:off x="5477040" y="4183200"/>
            <a:ext cx="2212920" cy="2173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280" y="450360"/>
            <a:ext cx="702468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Plasmid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60240" y="1225440"/>
            <a:ext cx="784728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Small ring of DNA that carries a few gen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Replicates separately from bacterial chromosom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Can carry genes for antibiotic resistanc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Used frequently in genetic engineering for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gene cloning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Picture 4" descr="http://4.bp.blogspot.com/_Xk5mq1MHTHM/TKB56q_jT7I/AAAAAAAAAR0/gKQN4qNa_cE/s1600/F7AFD_plasmid.jpg.jpeg"/>
          <p:cNvPicPr/>
          <p:nvPr/>
        </p:nvPicPr>
        <p:blipFill>
          <a:blip r:embed="rId2"/>
          <a:stretch/>
        </p:blipFill>
        <p:spPr>
          <a:xfrm>
            <a:off x="1504800" y="4748040"/>
            <a:ext cx="3202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5960" y="496800"/>
            <a:ext cx="702468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AP Bio Lab 6A - Transformati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301760" y="1238400"/>
            <a:ext cx="67057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20:31Z</dcterms:created>
  <dc:creator>local</dc:creator>
  <dc:description/>
  <dc:language>en-US</dc:language>
  <cp:lastModifiedBy>Chris Nancy Chou</cp:lastModifiedBy>
  <dcterms:modified xsi:type="dcterms:W3CDTF">2012-01-12T07:14:46Z</dcterms:modified>
  <cp:revision>13</cp:revision>
  <dc:subject/>
  <dc:title>Bacteria</dc:title>
</cp:coreProperties>
</file>